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9CE-DD17-4816-97EB-53B5BB39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19E-D957-4A18-89A7-6C01EA98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F8D-7C84-45D8-9D40-143AD5C7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C0C-3A2F-45A9-9823-5D6EFFF6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3EB7-C3D5-4F5D-9CC4-DBB46E33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075E-DE1A-4C1F-8D36-240ACCD0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DD59-3C1B-4DC3-AD1D-1EDCE7AE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4056-9A44-46CC-ADEA-91F1F14F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5E27-B8F4-4A7A-9BC3-A522F02F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6978-B1C9-471A-8375-6E526158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2E16-B92D-46AE-A3E1-096FDE2F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F63-43F7-453F-8380-E4F7C16E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8686-93D8-474C-AF6F-3F140BA6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25AF-7382-4E99-9208-2CCDD301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10B2-2E8F-414C-8F60-76B27C95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5DE2-41C9-4E97-9B63-CFC79BC4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E471-978D-4D49-B423-37E84A00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8344C-59D7-4BF4-A6DA-18426FAB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AEE6D-5BED-4FA0-9C3F-E9CCDBA0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7EF73-92F5-46A3-9080-9EBB8932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333BF-3D49-4876-A5DF-1EBC646A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AD7FA-7835-4FC8-B6C0-BDB38ABE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345-E87C-46F5-8CDA-170A7005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99C89-E268-45FE-8FC9-0F6FCFDA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3F4C0-3868-486E-9281-79570067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4CF1-FB3F-4D2A-BE8C-2FF8B762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E928B-895C-4677-ADD4-5C076AE0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3E645-69DE-4ADA-BB8B-4D944D9E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111D2-0015-405A-908B-992B4656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F77C2-6A05-47EE-A17A-17540D37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A8DC7-ABC0-4B6E-ADCA-3815CD7A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10D44-8271-4F6B-87F7-D4B37C43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7E343-F7FF-4173-A825-5449E624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C17-18F1-440D-935A-A1B29ABC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2F882-1F76-4119-8227-AD0C22F8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23573-4D71-4FEF-9D7C-927AFD39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B4E5D-6DE2-4AA5-ABE8-0363E1A9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CB38D-0390-4AC7-AD15-6E2DB7F5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78D12-26AD-4B8D-BD1E-151C1B23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F1726-04F6-45BD-8112-A61B124B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0B2AB-BD79-494B-B878-733073C6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39E10-89F3-46C8-A591-BA4E8579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B61D4-AEC0-4DD5-9A7A-B601BBA9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47F39-ECE2-4E26-AFB2-DC3A152B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937-E7C9-44E9-81AD-E06B1BB6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9FFF4-FB7D-4076-94E2-30C82686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BCA39-2046-44AD-91FD-6C35E57B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BEE1B-A248-439F-B256-E4426DB0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8815C-269C-4666-B4CD-00D52D7A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A9FC1-8B3A-444F-BB0E-1C34ADEF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998A0-3943-4086-BD5C-2A0A3DC8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742B9-BF34-4EB1-BD37-CD676C52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C20A2-34B5-4F5F-9F51-270E47D3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CBF25-6A54-4B26-83E5-3BBDA0F3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3F62B-7912-41A6-98C6-2756E1AF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CC9-A53C-4408-A266-4AF2F42E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3B866-0B1D-4443-8A7C-A9888B9E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1AB99-9573-4D43-9438-A05EF463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D5B63-A323-42B9-A2D8-E1AEFA86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60B3D-B4E7-4C2A-80B6-DC4C4691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29CB2-2B6D-4D35-805B-39009248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D8A61-0C46-4A23-9486-543DF20C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24FEC-6599-4115-B543-BDC4B980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F09F0-C61C-48F6-A020-01320E15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B8FB5-7C81-48B0-88A7-743A02D7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90829-0187-4780-A61E-76C47B82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4A8-9CF9-4BDF-B8EA-99B5C4F1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1CD0B-A7D5-4084-9F64-7B06B298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0536E-0AE2-4E25-BBC9-B23593A7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4D019-0AB8-44D1-9969-971BFBD5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EAE5C-8EF9-4B2C-84BD-62A3AC57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BE9FC-64DA-4C69-92E0-F0CCBA0A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0255B-8D18-4E05-99C5-B2A37284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2B2C4-6992-419C-ABE7-417B49A0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FB6F6-78A3-4915-A169-16631332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9955A-5972-41D3-BBC8-A4A7C2D8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7D152-FA69-4AE9-983E-DCC3F7EE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5CA-AE8B-4C1F-A23A-5A55F6F7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BCDD0-4B79-4E5C-8746-FE31FAC6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483DC-DEC3-4777-BD91-C4DE1748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680AF-6B41-41E4-B151-63E23548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D0E9C-39A7-4DBA-912A-02D25156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18528-1442-4B9E-8550-A9818A45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977-55D4-461E-A02A-1F663617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7985-97C2-4ABE-8ED4-0B27DC2861B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AA67-190E-4C50-B3FF-E7C091EA663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0BFF-BBE5-4F03-A72E-13786135BC0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39C9-AC03-42B3-96A9-BB6AFDB5A10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13E9-9CA8-45A2-8723-A626C9D9CC7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30BD-6AEF-4D25-916E-D8052D13F53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CBDE-B914-4B96-B9E6-11F816FE7D4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mo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Module 16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http://www.bassetlaw-pct.nhs.uk/gdp/images/smiling_woman.png"/>
          <p:cNvPicPr/>
          <p:nvPr/>
        </p:nvPicPr>
        <p:blipFill>
          <a:blip r:embed="rId1"/>
          <a:stretch/>
        </p:blipFill>
        <p:spPr>
          <a:xfrm>
            <a:off x="5638680" y="457200"/>
            <a:ext cx="3133800" cy="5324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http://lumiere.ens.fr/~alphapsy/blog/images/frowning.JPG"/>
          <p:cNvPicPr/>
          <p:nvPr/>
        </p:nvPicPr>
        <p:blipFill>
          <a:blip r:embed="rId2"/>
          <a:stretch/>
        </p:blipFill>
        <p:spPr>
          <a:xfrm>
            <a:off x="1143000" y="3886200"/>
            <a:ext cx="1666800" cy="1905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http://lowcostattitudenz.files.wordpress.com/2008/11/surprise2.jpg"/>
          <p:cNvPicPr/>
          <p:nvPr/>
        </p:nvPicPr>
        <p:blipFill>
          <a:blip r:embed="rId3"/>
          <a:stretch/>
        </p:blipFill>
        <p:spPr>
          <a:xfrm>
            <a:off x="2971800" y="2438280"/>
            <a:ext cx="24382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is Emotion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motion – Made up of 4 component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terpretation or appraisal (of some stimulus – event, object, or thought) in terms of well-be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ubjective experience or feeling (ex. Fear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hysiological responses (ex. Change in heart rate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vert or observable behaviors (ex. facial expressions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ross-Cultural Emo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6 Basic Emotions (Cross Cultur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isgu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g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dn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ppin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rpri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e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motion The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90360" y="1295280"/>
            <a:ext cx="7497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PERIPHERAL THEORIE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James-Lange Theo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ays that our brain interprets specific physiological changes as feelings or emotions and that there is a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fferent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physiological pattern underlying each emo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6" descr="James Lang Theory.JPG"/>
          <p:cNvPicPr/>
          <p:nvPr/>
        </p:nvPicPr>
        <p:blipFill>
          <a:blip r:embed="rId1"/>
          <a:stretch/>
        </p:blipFill>
        <p:spPr>
          <a:xfrm>
            <a:off x="1447920" y="4267080"/>
            <a:ext cx="6219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eripheral Theory Continu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920"/>
            <a:ext cx="7499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cial Feedback Theor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ays that the sensations or feedback from the movement of your facial muscles and skin are interpreted by your brain as different emotio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3" descr="Facial Feedback.JPG"/>
          <p:cNvPicPr/>
          <p:nvPr/>
        </p:nvPicPr>
        <p:blipFill>
          <a:blip r:embed="rId1"/>
          <a:stretch/>
        </p:blipFill>
        <p:spPr>
          <a:xfrm>
            <a:off x="1066680" y="4114800"/>
            <a:ext cx="777240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COGNITIVE  APPRAISAL THEORY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294920" y="1218960"/>
            <a:ext cx="7497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gnitive Appraisal Theor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ays that your interpretation or appraisal or thought or memory of a situation, object, or event can contribute to, or result in, your experiencing different emotional state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Picture 3" descr="Cognitive Appraisal.JPG"/>
          <p:cNvPicPr/>
          <p:nvPr/>
        </p:nvPicPr>
        <p:blipFill>
          <a:blip r:embed="rId1"/>
          <a:stretch/>
        </p:blipFill>
        <p:spPr>
          <a:xfrm>
            <a:off x="1371600" y="4038480"/>
            <a:ext cx="7467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UNIVERSAL FACIAL EXPRESSIONS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fini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umber of specific inherited facial patterns or expressions that signal inherited facial patterns or expressions that show specific feelings or emotional states, such as a smile signaling a happy st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-Number of expressions (seven) - Cross cultur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ng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adn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appin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ea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urpris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sgu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emp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motions and the Lie Detect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are the physiological measures of the lie detector/polygraph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 it possible to beat a lie detecto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you be a human lie detector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are the verbal/nonverbal characteristics of a person telling a li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2:50:35Z</dcterms:created>
  <dc:creator>hberndt</dc:creator>
  <dc:description/>
  <dc:language>en-US</dc:language>
  <cp:lastModifiedBy>hberndt</cp:lastModifiedBy>
  <dcterms:modified xsi:type="dcterms:W3CDTF">2009-04-30T20:11:01Z</dcterms:modified>
  <cp:revision>7</cp:revision>
  <dc:subject/>
  <dc:title>Emotion</dc:title>
</cp:coreProperties>
</file>